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jpeg" ContentType="image/jpeg"/>
  <Override PartName="/ppt/media/image10.pct" ContentType="image/x-pict"/>
  <Override PartName="/ppt/media/image7.jpeg" ContentType="image/jpe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8EE0-3CE9-473A-A647-3731FF777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7436-4E69-4A94-BF77-E91AD0DD1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5637-468A-4733-B0FF-E210941A7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77B6-6202-42AC-AE11-18AB6F0FE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 shh mutants have some but not all characteristics of holoprosencephaly.  Oep mutants do.  Now know that Nodal is upstream regulator of Shh.  Oep is cofactor required for Nodal signaling and a target for therapeutic treatment of dis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49F-93D6-445B-8C46-3F95E16E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36C-F347-4AA1-8FE5-BF64E13C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4F5-88F4-4AA4-9F94-CD3F8348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F4F-8250-49E5-97C6-8DED2BF8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252-8A83-44AB-99FE-5BD211A5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AC4-6E6C-4FDD-87F0-95E7983E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0EA-FEB2-4AC3-83B5-AEBA17F2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6A5-DA3F-4729-8786-52437BB3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D0C-5F41-456A-84E2-52E186B8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318-C08B-400A-8E68-65FB0795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4DD-F518-49CA-82DB-A165694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E52-AB0A-473D-B09D-5F05337C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6983-0C33-44BC-BE11-F1A64CF4F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0948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Linking Anim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dels to Human Dis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9480" y="541008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e University of Oregon, Eugen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90280" y="617220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54936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549360"/>
            <a:ext cx="8686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5480" y="3079800"/>
            <a:ext cx="4039560" cy="320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79800"/>
            <a:ext cx="3098880" cy="3183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77080" y="39006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9080" y="2100240"/>
            <a:ext cx="3719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3360" y="316872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8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haracter 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8120"/>
            <a:ext cx="8305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or disease)  =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holo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40240" y="2476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1680" y="2476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2635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ep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1044720"/>
          <a:ext cx="8001000" cy="588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44720"/>
                    <a:ext cx="8001000" cy="5889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41760" y="375588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80880" y="1397160"/>
          <a:ext cx="8382240" cy="3609720"/>
        </p:xfrm>
        <a:graphic>
          <a:graphicData uri="http://schemas.openxmlformats.org/drawingml/2006/table">
            <a:tbl>
              <a:tblPr/>
              <a:tblGrid>
                <a:gridCol w="6793200"/>
                <a:gridCol w="158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0,3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assigned human ortholo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8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1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m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3,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ZFIN mutant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Corresponding huma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Drosophil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homologs of these 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6920" y="976320"/>
            <a:ext cx="77702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urier New"/>
                <a:ea typeface="ＭＳ Ｐゴシック"/>
              </a:rPr>
              <a:t>PATO developmen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est curation of zebrafish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nitial curation of phen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200 zebrafish mutations(Tübingen, 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orpholino phenotypes (Univ. of Minnes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400 Medaka mutations (Kyo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ffff"/>
              </a:buClr>
              <a:buFont typeface="Courie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CToL - taxonomy &amp; phyloge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BO-discuss email list for discu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14300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954080"/>
            <a:ext cx="63244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Melissa Haendel -anatomy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ug Howe -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rik Segerdell - P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ierra Taylor - 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295280" y="5410080"/>
            <a:ext cx="6782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niversity of Oregon, Eugene, Ore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61480" y="99072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5493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22:04:12Z</dcterms:created>
  <dc:creator>Erik Segerdell</dc:creator>
  <dc:description/>
  <dc:language>en-US</dc:language>
  <cp:lastModifiedBy>Monte Westerfield</cp:lastModifiedBy>
  <cp:lastPrinted>2005-11-18T02:00:04Z</cp:lastPrinted>
  <dcterms:modified xsi:type="dcterms:W3CDTF">2005-11-19T00:33:27Z</dcterms:modified>
  <cp:revision>88</cp:revision>
  <dc:subject/>
  <dc:title>Ontologies for Gene Expression and Phenotypes</dc:title>
</cp:coreProperties>
</file>